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5B8-5832-4860-B9DF-166E3347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6F8-F6A1-4CF2-B581-7DFC30ED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EAB-F962-4F0B-BAF1-E8DC1BB0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16D-6B71-44C1-9850-E6BBDE70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847-74A4-4D09-8F5D-2990FC58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467-F2D5-4C1D-8B24-711BB743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939-EE73-4E8C-8580-6BA59808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C4D-026E-49F3-A768-042B327C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B18-74D1-464D-A97C-6F656E1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3A1-CB9E-44F1-BC58-9EC54AB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14A-80A7-4CC2-9BFC-4E146284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CF1-2195-4C46-A389-7C273348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31F3-1B92-44CF-979E-BB2DFC65A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nxiety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30: Anxiety and Mood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Pho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bias which produce fear in social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ar of speaking in 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orapho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ar of situations the person views as difficult to escape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ar of leaving one’s home or room in the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ssive-Compulsive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nxiety disorder characterized by unwanted, repetitive thoughts and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ssions – repetitive thou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lsions – repetitive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bsessions/compulsions begin to take control of the person’s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Blair-Broeker_table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traumatic Stress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nxiety disorder characterized by reliving a severely upsetting event in unwanted recurring memories (flashbacks) and 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editary factors may result in a predisposition for developing anxiety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ain functions appear to be different in an anxiety disorder pat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ary factors may lead to anxiety disor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O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Blair-Broeker_fig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ough classical conditioning people may associate fear with an ob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tional learning--watching another experiencing fearfulness--may result in developing f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ar of an object may be reinforced when by avoiding the feared obj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Mood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30: Anxiety and Mood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ification of disorders where there is a disturbance in the person’s e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jor types of mood disorders inclu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jor Depressive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polar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ysthymic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 and Anxiet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xiety: Vague feeling of apprehension or nerv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xiety disorder: where anxiety begins to take control and dominate a person’s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Blair-Broeker_30UN01"/>
          <p:cNvPicPr/>
          <p:nvPr/>
        </p:nvPicPr>
        <p:blipFill>
          <a:blip r:embed="rId1"/>
          <a:stretch/>
        </p:blipFill>
        <p:spPr>
          <a:xfrm>
            <a:off x="6019920" y="1828800"/>
            <a:ext cx="265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Blair-Broeker_fig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492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od of abnormally high emotion and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ended period of feeling sad, listless, and drained of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 Depressive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ood disorder in which a person, for no apparent reason, experiences at least two week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ed moo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inished interest in activities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ymptoms, such as feelings of worth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polar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ood disorder in which the person alternates between the hopelessness of depression and the overexcited and unreasonably optimistic state of 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erly called manic-depressive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y times will follow a cyclical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od disorders have a hereditary nature to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ressed individuals tend to have depressed bra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T scans indicate less activity during periods of depre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polar Disorder PET Sc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Blair-Broeker_fig"/>
          <p:cNvPicPr/>
          <p:nvPr/>
        </p:nvPicPr>
        <p:blipFill>
          <a:blip r:embed="rId1"/>
          <a:stretch/>
        </p:blipFill>
        <p:spPr>
          <a:xfrm>
            <a:off x="0" y="1933560"/>
            <a:ext cx="9144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-Cognitiv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ression may be a variation of learned helpless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ressed individuals attribute events using the following characteristic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ble: the bad situation will last for a long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al: they are at fa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: all of life is 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Blair-Broeker_fi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062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ion and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tion of M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Blair-Broeker_fig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xiety disorders are divided in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ized Anxie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nic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ssive-Compulsive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traumatic Stress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lair-Broeker_fig"/>
          <p:cNvPicPr/>
          <p:nvPr/>
        </p:nvPicPr>
        <p:blipFill>
          <a:blip r:embed="rId1"/>
          <a:stretch/>
        </p:blipFill>
        <p:spPr>
          <a:xfrm>
            <a:off x="0" y="1271520"/>
            <a:ext cx="9144000" cy="558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xiet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ized Anxie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nxiety disorder characterized by disruptive levels of persistent, unexplained feelings of apprehension and tens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ptoms of Generalized Anx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have at least three of the follow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tles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eling on 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iculty concentrating/mind going 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ri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cle 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eep Disturb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nic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nxiety disorder characterized by sudden bouts of intense, unexplained anx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ten associated with physical symptoms like choking sensations or shortness of br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nic attacks may happen several times a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nxiety disorder characterized by disruptive, irrational fears of specific objects or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ear must be both irrational and disrup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Blair-Broeker_table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7:26Z</dcterms:created>
  <dc:creator>Home</dc:creator>
  <dc:description/>
  <dc:language>en-US</dc:language>
  <cp:lastModifiedBy>Meghan Reilly</cp:lastModifiedBy>
  <dcterms:modified xsi:type="dcterms:W3CDTF">2011-11-17T16:34:03Z</dcterms:modified>
  <cp:revision>56</cp:revision>
  <dc:subject/>
  <dc:title>Psychology</dc:title>
</cp:coreProperties>
</file>